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3.jpeg" ContentType="image/jpeg"/>
  <Override PartName="/ppt/media/image12.png" ContentType="image/png"/>
  <Override PartName="/ppt/media/image49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0.jpeg" ContentType="image/jpe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35.png" ContentType="image/png"/>
  <Override PartName="/ppt/media/image40.png" ContentType="image/png"/>
  <Override PartName="/ppt/media/image11.jpeg" ContentType="image/jpeg"/>
  <Override PartName="/ppt/media/image9.jpeg" ContentType="image/jpeg"/>
  <Override PartName="/ppt/media/image30.png" ContentType="image/png"/>
  <Override PartName="/ppt/media/image37.jpeg" ContentType="image/jpeg"/>
  <Override PartName="/ppt/media/image13.png" ContentType="image/png"/>
  <Override PartName="/ppt/media/image5.jpeg" ContentType="image/jpeg"/>
  <Override PartName="/ppt/media/image50.png" ContentType="image/png"/>
  <Override PartName="/ppt/media/image42.png" ContentType="image/png"/>
  <Override PartName="/ppt/media/image28.png" ContentType="image/png"/>
  <Override PartName="/ppt/media/image38.jpeg" ContentType="image/jpeg"/>
  <Override PartName="/ppt/media/image44.jpeg" ContentType="image/jpeg"/>
  <Override PartName="/ppt/media/image45.png" ContentType="image/png"/>
  <Override PartName="/ppt/media/image46.png" ContentType="image/png"/>
  <Override PartName="/ppt/media/image43.png" ContentType="image/png"/>
  <Override PartName="/ppt/media/image47.jpeg" ContentType="image/jpeg"/>
  <Override PartName="/ppt/media/image4.png" ContentType="image/png"/>
  <Override PartName="/ppt/media/image41.png" ContentType="image/png"/>
  <Override PartName="/ppt/media/image48.jpeg" ContentType="image/jpeg"/>
  <Override PartName="/ppt/media/image8.png" ContentType="image/png"/>
  <Override PartName="/ppt/media/image34.jpeg" ContentType="image/jpeg"/>
  <Override PartName="/ppt/media/image7.png" ContentType="image/png"/>
  <Override PartName="/ppt/media/image39.png" ContentType="image/png"/>
  <Override PartName="/ppt/media/image22.jpeg" ContentType="image/jpeg"/>
  <Override PartName="/ppt/media/image6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AutoShape 1"/>
          <p:cNvSpPr/>
          <p:nvPr/>
        </p:nvSpPr>
        <p:spPr>
          <a:xfrm>
            <a:off x="0" y="0"/>
            <a:ext cx="7102440" cy="10234440"/>
          </a:xfrm>
          <a:custGeom>
            <a:avLst/>
            <a:gdLst>
              <a:gd name="textAreaLeft" fmla="*/ 360 w 7102440"/>
              <a:gd name="textAreaRight" fmla="*/ 7102080 w 710244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25">
                <a:moveTo>
                  <a:pt x="4" y="0"/>
                </a:moveTo>
                <a:arcTo wR="4" hR="4" stAng="16200000" swAng="-5400000"/>
                <a:lnTo>
                  <a:pt x="0" y="31121"/>
                </a:lnTo>
                <a:arcTo wR="4" hR="4" stAng="10800000" swAng="-5400000"/>
                <a:lnTo>
                  <a:pt x="21596" y="3112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Text Box 2"/>
          <p:cNvSpPr/>
          <p:nvPr/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dt" idx="25"/>
          </p:nvPr>
        </p:nvSpPr>
        <p:spPr>
          <a:xfrm>
            <a:off x="4024440" y="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ldImg"/>
          </p:nvPr>
        </p:nvSpPr>
        <p:spPr>
          <a:xfrm>
            <a:off x="995040" y="768240"/>
            <a:ext cx="5111640" cy="38354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1520" cy="4603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6"/>
          <p:cNvSpPr/>
          <p:nvPr/>
        </p:nvSpPr>
        <p:spPr>
          <a:xfrm>
            <a:off x="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sldNum" idx="26"/>
          </p:nvPr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9E2A9D-7415-4D6F-B4F1-12CC9607A240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B2FE5B-A959-4479-8B18-C61103F3DF8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resentation slide for courses, classes, lectures et a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78BC191-CD75-4AB0-BE45-69182F5C8A5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9E3677-AD5E-4952-90F5-356352B2197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5E9F81B-6D5B-4915-989C-454DBCBF85B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AD94D0-6766-46E3-9B77-8355D7BE163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Beginning course details and/or books/materials needed for a class/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CB6545-2608-4CC2-A430-66E35B2156FB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03493F-4340-406E-B8BC-180840043DD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Beginning course details and/or books/materials needed for a class/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94C04E-4932-4633-8FBA-B33E82ECC59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696E11-C31B-4B44-B3EA-C6EC17725F4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Beginning course details and/or books/materials needed for a class/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61B2E0-1257-4051-8A58-1C9DF3B4EED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64494A-9E7B-4F49-A9E8-B971C2130DC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Beginning course details and/or books/materials needed for a class/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Text Box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7489C6E-0C1B-440C-9AB3-473F47BDEC0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855149-1255-413B-8604-A8EAD683ABC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12ABA0-92DF-4113-AEEC-2EA0C74790C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AFD9B9-02DF-4C4F-BBC2-3F6277E9449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D6C57-A84D-4061-8ABA-503A517155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DE52D-88A3-4EC7-BD9A-B175C5923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1893F9-9058-4DF7-87A4-9DC4900A3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9C5E15-4896-4660-A4D7-3640D7F56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54C1FF-DDF2-476A-81B6-61165BCB4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B43B2C-D2B0-4B61-B9B0-7EEB6822F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B289FB-89E0-4D4F-937D-51BC15AFB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918295-77CA-4809-8A08-82CBA2B6E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C8C691-35AF-4FF1-A241-7E4700074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515FED-A8DD-4834-9771-DD405955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4B9999-EBC7-4EAD-AD1B-B2783CA13D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0F8A30-2DD7-43FD-8496-567F75EE50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00065-2E17-44F2-9DE3-A7DE0EB2B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D51B30-853A-4189-B6A9-ADB690516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3D2710-7486-4ECC-B237-3E0C18993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FA0B7E-4E20-4712-A717-A9D1A8C80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F66B9D-AB13-4F5F-89B1-3671AF70B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790E59-CDC8-4328-82B4-CA638E9D6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A9360E-A3D9-4623-BEC1-32C374E0C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C2C893-CE79-4040-A8DC-1B60CCEFC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ECF5F7-946B-4EEB-860C-5B1973D3E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914951-405D-4141-99D9-8E5909431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D49DE1-1C95-4383-BB18-63DEC0C87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DC43C-509B-4E3F-8C29-75BC043BCF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73F1E9-5253-4DB1-9AEA-C3B5C44931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1889FD4-CB12-42AF-91B6-465A63EA9B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722198A-4216-41F3-9E5C-92D5222AA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1EB7006-06EF-46FB-BB8D-53E73382B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307E46E-26F0-4E96-9A4C-69D1B970F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2816EA0-A46A-472D-BB4A-57346DF68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72171D8-9EBC-4A7B-9A18-2DD7FF22E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47F8DE8-D9D4-4E7D-8578-DDE396CB9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FF34703-3951-4A3A-8F49-4FD46AA40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7995BB7-C8F2-47C4-B9D2-F66F35461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1B2D56-FA4D-43F7-B2D6-C6AF1EAA0A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E74E9DF-E9D6-451E-8E3A-E3FD5D70C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C769B05-DFC0-4E85-B264-E2649E59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AB3D354-489D-43B3-BF16-694E4BF1EAE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46BCC9-226E-49A7-BD80-35481DEADE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0B8A19-282F-4A9D-8198-FD5EB8502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E90F46-0036-4785-9C33-89DD54F8A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677B3A-E923-4BE9-96C9-DA19A0F80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1F49B1-9938-45BB-8F18-31C8C66D2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98BF48-81D8-43D8-9C6F-3C1E60AC6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639AE1-A46C-4801-BA15-2008F6ABB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5037AB-15BC-4D59-8D69-BF1A8F276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C6F98E-7435-43B4-82F7-AC4E02BAC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F44EB6-DA0A-4282-8421-417402D5F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027BB8-FD88-4512-8B2A-A158FFAC8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3AB6A8-0225-4B2F-ACF9-CDCBE2B2E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B9C0FA-1BCD-422A-B196-B3B2BE1D2AD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949758-DE15-456B-A1FB-4FE65FF9B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6D18B0-24BA-4CC6-B3E2-0C4614CD4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0FC343-D332-45DF-BEE1-CF60F4E04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616D12-A372-4827-9B0D-D027922BE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C8FFC6-B939-4A77-8342-626142B83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BC07C-4A79-4A41-8E95-C3067B56E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CA9E5F-5559-419F-AE64-DCCC86400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D1844D-E702-4147-8D7C-5CF1BBAA5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51094B-A3B9-420F-91F2-253267339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16D6DE-5731-4B8D-B7B8-118D7A7B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26262A-A577-40A1-809C-761089DF42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BB61D-FA72-4068-BD0B-2317302951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E0C28-CE2B-4365-A854-755D02BEB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BE72A-B80B-48CE-8065-AD2056931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3C612-86A7-43C2-B09B-4A1ACBCA4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77635-3124-4F25-AD54-137880AFE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2F14A-5656-4ECE-BE5D-532955D8F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AF166-0B6C-4CBF-9D97-F0E453768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A9CE9-5B8C-419C-AA6F-D7F0038E8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1E1D0-7141-4892-9869-382A6198E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2DA52-EE69-4AC9-A433-B30381BB0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5B96A-DB85-4C95-853E-2729FB131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6BC83-514A-4CF6-9510-147F3D4E4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21A6F-15CF-4BBF-B52D-5AF540DE7D0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1939AD-A286-4736-9928-AA49C05077E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D8B4C0-B128-4A71-9EC2-DC70868F4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E793F9-EDE7-4902-BF13-64D86361A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04E09-D11C-4CCD-AC00-78BB932D1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4DC105-2779-4A99-9DCE-CC869767F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59D7F2-4A0B-46D6-ABAA-A699AFDA2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65CDF6-FDAD-4BA0-8C75-49E0CD743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A28D3A-C5D8-445C-8C22-68EB9256B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F23BFF-299E-409B-8042-467B7FDD5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2A0F26-42F6-4A8D-A1A2-5D32D3A8A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20C402-4BBF-4DD1-B003-D6B5A4A4D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B81307-B453-4006-835F-022AB4AD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509447-6452-4636-BABC-761AB8746EC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E40F9D-3F28-4A60-BE04-58504464462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115C4-7574-4F92-AC02-D14232CDF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CF41C6-12D1-4C70-8F76-6573BA1CA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130120-70CB-4DF4-975E-E18446521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7976EB-B2D7-47CA-B449-08238DEB9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3137EC-E7EC-4AA8-86EB-1ADCE7DEE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52FCA7-9329-45A2-B84A-FC0F72622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C95955-0B88-4AE9-9144-53EDB8AB9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F8043D-92D9-4EA8-BCA3-CF8116F7E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293FEF-7206-486F-8F42-E3C59F958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1D1F39-242C-40AC-8D43-58556E150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164B55-C10A-46FB-A509-A23AF77B0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A29B5-7182-4694-966F-94C44D9AB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8C1416-9A8E-4214-B63F-27ED1DA178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112C5-596A-44CA-BE0A-9B15EF16F95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B8249-DEC9-4982-8414-805324CCF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D9800-1F5A-470D-9675-00BF9B5DF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2A6F7-8B36-4DF4-AFA2-BD4508B1E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3333A-8666-46E3-A617-3CBDD03B6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700B4-6D4E-4900-970A-88F92DB30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09300-4A82-47D1-A8CE-9205A985D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4C1EE-F543-4BFD-8594-875D22A69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215CD-A5EE-4A18-B6E6-270AF33B6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C8BD6-526F-4BDA-943E-A45F9C34F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1FA99-E746-4A91-BE80-DF4ADEE18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E14A7-0290-442A-BA94-F2857785A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B94CE-B6AA-4781-BFCA-109274D3E1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076029-0959-4BCB-99AA-736340E7CF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DD9B37-12DA-4203-B18C-BC38E4AC6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E7F235-AD27-4B29-8BD2-09D701D55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643C15-DF18-4DAA-BC64-D6C9227E1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E7DB11-2756-4526-830A-36EA8B3FB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2C9A59-515A-4EA1-95DF-A5819C82C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5746B0-D8FB-4689-BB3F-00CE9880E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FF913-7150-4013-8538-6A4750792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A79D0C-0F0B-40D5-A0B8-0738EAAC1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1DC641-BD0E-4E42-8FE9-52EE3D0B2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F3F512-C27A-400F-A8AE-2031D0918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326768-DA13-4776-8572-2369B74B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B0E2CD-FE5B-45C6-A784-7B170ED50A3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05E91BC-B152-42C7-9DB0-F0319624116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4984CA1-E05E-4211-959B-AAA6411E5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EB0FB39-30FE-473D-B962-3A1E15126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D63AC48-5E40-4B55-A98D-89C99F742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F944A7F-75D0-4D0B-BF0C-23DC9E04D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ABD0C-A14F-4D21-8154-27849CCFE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C3A70E0-745E-44C6-B1DC-1E97CC274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95D7F7A-33D9-4BA5-A6DC-732161355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3A6BE20-CDC3-4D67-B036-5A401A849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261306A-F4EC-4CA0-AA99-0AA4AE3A0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1197599-0E88-41EE-B677-C3E8A7551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5058D9D-86A0-4FB1-B54C-B9B60EF8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0C885DC-1117-4282-BDF4-801908AD4D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FED2E1-54E5-4C42-9A47-FB836341A11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1196B-6DAD-4DD2-941D-381196C25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A3CB86-FBAF-4A5A-AC39-216256306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880" y="6246360"/>
            <a:ext cx="26654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01/30/13 09: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609480" y="6246720"/>
            <a:ext cx="542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5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-360" y="1209240"/>
            <a:ext cx="5317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A49CC0-C36D-4E60-B8C7-9FE0504A7568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1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Rectangle 2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19"/>
          </p:nvPr>
        </p:nvSpPr>
        <p:spPr>
          <a:xfrm>
            <a:off x="624852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sldNum" idx="20"/>
          </p:nvPr>
        </p:nvSpPr>
        <p:spPr>
          <a:xfrm>
            <a:off x="-360" y="4667400"/>
            <a:ext cx="14461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411736-72F2-471E-8ACF-5D0BC5714224}" type="slidenum">
              <a:rPr b="1" lang="en-US" sz="28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9"/>
          <p:cNvSpPr/>
          <p:nvPr/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21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7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sldNum" idx="22"/>
          </p:nvPr>
        </p:nvSpPr>
        <p:spPr>
          <a:xfrm>
            <a:off x="-360" y="1238040"/>
            <a:ext cx="531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34F75E-B750-4673-9F17-03611048E427}" type="slidenum">
              <a:rPr b="1" lang="en-US" sz="1200" spc="-1" strike="noStrike">
                <a:solidFill>
                  <a:srgbClr val="323232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1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Rectangle 2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Rectangle 3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23"/>
          </p:nvPr>
        </p:nvSpPr>
        <p:spPr>
          <a:xfrm>
            <a:off x="6553080" y="6248160"/>
            <a:ext cx="22082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 Box 7"/>
          <p:cNvSpPr/>
          <p:nvPr/>
        </p:nvSpPr>
        <p:spPr>
          <a:xfrm>
            <a:off x="45720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sldNum" idx="24"/>
          </p:nvPr>
        </p:nvSpPr>
        <p:spPr>
          <a:xfrm>
            <a:off x="6410160" y="-360"/>
            <a:ext cx="53208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BA6029-D001-48AC-B6D3-8FF7ABFA901E}" type="slidenum">
              <a:rPr b="1" lang="en-US" sz="1200" spc="-1" strike="noStrike">
                <a:solidFill>
                  <a:srgbClr val="323232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3"/>
          </p:nvPr>
        </p:nvSpPr>
        <p:spPr>
          <a:xfrm>
            <a:off x="76320" y="6068520"/>
            <a:ext cx="20556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  <a:ea typeface="Arial"/>
              </a:rPr>
              <a:t>01/30/13 09: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208584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4"/>
          </p:nvPr>
        </p:nvSpPr>
        <p:spPr>
          <a:xfrm>
            <a:off x="8001000" y="228600"/>
            <a:ext cx="8366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E65871-889E-474B-B7BB-B24B90C86E73}" type="slidenum">
              <a:rPr b="1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5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sldNum" idx="6"/>
          </p:nvPr>
        </p:nvSpPr>
        <p:spPr>
          <a:xfrm>
            <a:off x="-360" y="1220400"/>
            <a:ext cx="5317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98D00D-0172-4DEF-BF58-EED04947DFA1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7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38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ADB517-80A1-4BD8-B85B-48FD5CBE7A41}" type="slidenum">
              <a:rPr b="1" lang="en-US" sz="24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9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0"/>
          </p:nvPr>
        </p:nvSpPr>
        <p:spPr>
          <a:xfrm>
            <a:off x="-360" y="1220400"/>
            <a:ext cx="5317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518EC3-C68D-4266-8D91-56B6724C7234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1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2"/>
          </p:nvPr>
        </p:nvSpPr>
        <p:spPr>
          <a:xfrm>
            <a:off x="-360" y="1220400"/>
            <a:ext cx="5317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A79D18-4AC1-4EB6-A031-53F6EF78744E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3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sldNum" idx="14"/>
          </p:nvPr>
        </p:nvSpPr>
        <p:spPr>
          <a:xfrm>
            <a:off x="-360" y="1220400"/>
            <a:ext cx="5317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064C60-B2AA-49E7-ACCC-234072225171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16"/>
          </p:nvPr>
        </p:nvSpPr>
        <p:spPr>
          <a:xfrm>
            <a:off x="-360" y="6248520"/>
            <a:ext cx="53172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3CFFBB-6F70-4A9F-A934-5597C43A471F}" type="slidenum">
              <a:rPr b="1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3"/>
          <a:stretch/>
        </p:blipFill>
        <p:spPr>
          <a:xfrm>
            <a:off x="612720" y="1755720"/>
            <a:ext cx="1614600" cy="168912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17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sldNum" idx="18"/>
          </p:nvPr>
        </p:nvSpPr>
        <p:spPr>
          <a:xfrm>
            <a:off x="-360" y="1220400"/>
            <a:ext cx="5317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6BAE6C-8E96-411E-B9D0-700DB5EA1373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5.jpe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85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jpe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jpe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32.png"/><Relationship Id="rId16" Type="http://schemas.openxmlformats.org/officeDocument/2006/relationships/image" Target="../media/image33.png"/><Relationship Id="rId17" Type="http://schemas.openxmlformats.org/officeDocument/2006/relationships/image" Target="../media/image34.jpeg"/><Relationship Id="rId18" Type="http://schemas.openxmlformats.org/officeDocument/2006/relationships/image" Target="../media/image35.png"/><Relationship Id="rId19" Type="http://schemas.openxmlformats.org/officeDocument/2006/relationships/image" Target="../media/image36.jpeg"/><Relationship Id="rId20" Type="http://schemas.openxmlformats.org/officeDocument/2006/relationships/image" Target="../media/image37.jpeg"/><Relationship Id="rId21" Type="http://schemas.openxmlformats.org/officeDocument/2006/relationships/image" Target="../media/image38.jpeg"/><Relationship Id="rId22" Type="http://schemas.openxmlformats.org/officeDocument/2006/relationships/image" Target="../media/image39.png"/><Relationship Id="rId23" Type="http://schemas.openxmlformats.org/officeDocument/2006/relationships/image" Target="../media/image40.png"/><Relationship Id="rId24" Type="http://schemas.openxmlformats.org/officeDocument/2006/relationships/image" Target="../media/image41.png"/><Relationship Id="rId25" Type="http://schemas.openxmlformats.org/officeDocument/2006/relationships/image" Target="../media/image42.png"/><Relationship Id="rId26" Type="http://schemas.openxmlformats.org/officeDocument/2006/relationships/image" Target="../media/image43.png"/><Relationship Id="rId27" Type="http://schemas.openxmlformats.org/officeDocument/2006/relationships/image" Target="../media/image44.jpeg"/><Relationship Id="rId28" Type="http://schemas.openxmlformats.org/officeDocument/2006/relationships/image" Target="../media/image45.png"/><Relationship Id="rId29" Type="http://schemas.openxmlformats.org/officeDocument/2006/relationships/image" Target="../media/image46.png"/><Relationship Id="rId30" Type="http://schemas.openxmlformats.org/officeDocument/2006/relationships/image" Target="../media/image47.jpeg"/><Relationship Id="rId31" Type="http://schemas.openxmlformats.org/officeDocument/2006/relationships/image" Target="../media/image48.jpeg"/><Relationship Id="rId32" Type="http://schemas.openxmlformats.org/officeDocument/2006/relationships/image" Target="../media/image49.png"/><Relationship Id="rId33" Type="http://schemas.openxmlformats.org/officeDocument/2006/relationships/image" Target="../media/image50.png"/><Relationship Id="rId34" Type="http://schemas.openxmlformats.org/officeDocument/2006/relationships/slideLayout" Target="../slideLayouts/slideLayout85.xml"/><Relationship Id="rId3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 Box 1"/>
          <p:cNvSpPr/>
          <p:nvPr/>
        </p:nvSpPr>
        <p:spPr>
          <a:xfrm>
            <a:off x="2193840" y="298440"/>
            <a:ext cx="647712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4000"/>
            </a:br>
            <a:br>
              <a:rPr sz="4000"/>
            </a:br>
            <a:r>
              <a:rPr b="1" lang="ro-RO" sz="3200" spc="-1" strike="noStrike">
                <a:solidFill>
                  <a:srgbClr val="70215f"/>
                </a:solidFill>
                <a:latin typeface="Open Sans"/>
                <a:ea typeface="Open Sans"/>
              </a:rPr>
              <a:t>Asociaţia  </a:t>
            </a:r>
            <a:r>
              <a:rPr b="1" lang="en-US" sz="3200" spc="-1" strike="noStrike">
                <a:solidFill>
                  <a:srgbClr val="70215f"/>
                </a:solidFill>
                <a:latin typeface="Open Sans"/>
                <a:ea typeface="Open Sans"/>
              </a:rPr>
              <a:t>Shakespeare School</a:t>
            </a:r>
            <a:r>
              <a:rPr b="1" lang="ro-RO" sz="3200" spc="-1" strike="noStrike">
                <a:solidFill>
                  <a:srgbClr val="70215f"/>
                </a:solidFill>
                <a:latin typeface="Open Sans"/>
                <a:ea typeface="Open Sans"/>
              </a:rPr>
              <a:t> pentru Educaţ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5000" spc="-1" strike="noStrike">
                <a:solidFill>
                  <a:srgbClr val="5d6967"/>
                </a:solidFill>
                <a:latin typeface="Harlow Solid Italic"/>
              </a:rPr>
              <a:t>Essay Competition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Text Box 2"/>
          <p:cNvSpPr/>
          <p:nvPr/>
        </p:nvSpPr>
        <p:spPr>
          <a:xfrm>
            <a:off x="228600" y="3952800"/>
            <a:ext cx="6781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7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18960"/>
                <a:tab algn="l" pos="1233360"/>
                <a:tab algn="l" pos="2147760"/>
                <a:tab algn="l" pos="3062160"/>
                <a:tab algn="l" pos="3976560"/>
                <a:tab algn="l" pos="4890960"/>
                <a:tab algn="l" pos="5805360"/>
                <a:tab algn="l" pos="6719760"/>
                <a:tab algn="l" pos="7634160"/>
                <a:tab algn="l" pos="8548560"/>
                <a:tab algn="l" pos="9462960"/>
                <a:tab algn="l" pos="10377360"/>
                <a:tab algn="l" pos="10515600"/>
              </a:tabLst>
            </a:pPr>
            <a:r>
              <a:rPr b="1" lang="ro-RO" sz="2200" spc="-1" strike="noStrike">
                <a:solidFill>
                  <a:srgbClr val="70215f"/>
                </a:solidFill>
                <a:latin typeface="Open Sans"/>
                <a:ea typeface="Open Sans"/>
              </a:rPr>
              <a:t>Concurs national de creatie in limba engleza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Text Box 3"/>
          <p:cNvSpPr/>
          <p:nvPr/>
        </p:nvSpPr>
        <p:spPr>
          <a:xfrm>
            <a:off x="380880" y="62485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201</a:t>
            </a:r>
            <a:r>
              <a:rPr b="0" lang="ro-RO" sz="2000" spc="-1" strike="noStrike">
                <a:solidFill>
                  <a:srgbClr val="ffffff"/>
                </a:solidFill>
                <a:latin typeface="Century Schoolbook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4"/>
          <p:cNvSpPr/>
          <p:nvPr/>
        </p:nvSpPr>
        <p:spPr>
          <a:xfrm>
            <a:off x="3527280" y="3429000"/>
            <a:ext cx="3022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o-RO" sz="2200" spc="-1" strike="noStrike">
                <a:solidFill>
                  <a:srgbClr val="5d6967"/>
                </a:solidFill>
                <a:latin typeface="Open Sans"/>
              </a:rPr>
              <a:t>  </a:t>
            </a:r>
            <a:r>
              <a:rPr b="1" i="1" lang="ro-RO" sz="2200" spc="-1" strike="noStrike">
                <a:solidFill>
                  <a:srgbClr val="5d6967"/>
                </a:solidFill>
                <a:latin typeface="Open Sans"/>
              </a:rPr>
              <a:t>Februarie - Mai 2013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Text Box 5"/>
          <p:cNvSpPr/>
          <p:nvPr/>
        </p:nvSpPr>
        <p:spPr>
          <a:xfrm>
            <a:off x="152280" y="44956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o-RO" sz="1300" spc="-1" strike="noStrike">
                <a:solidFill>
                  <a:srgbClr val="5d6967"/>
                </a:solidFill>
                <a:latin typeface="Open Sans"/>
              </a:rPr>
              <a:t>Proiect inclus in Calendarul Activitatilor Educative al Inspectoratului Scolar al Municipiului Bucuresti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Text Box 7"/>
          <p:cNvSpPr/>
          <p:nvPr/>
        </p:nvSpPr>
        <p:spPr>
          <a:xfrm>
            <a:off x="6019920" y="6380280"/>
            <a:ext cx="3047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o-RO" sz="2500" spc="-1" strike="noStrike">
                <a:solidFill>
                  <a:srgbClr val="5d6967"/>
                </a:solidFill>
                <a:latin typeface="Open Sans"/>
              </a:rPr>
              <a:t>Write, race, win!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1" name="Picture 11" descr="Logo Asociatia SS pentru Educatie_220.jpg"/>
          <p:cNvPicPr/>
          <p:nvPr/>
        </p:nvPicPr>
        <p:blipFill>
          <a:blip r:embed="rId2"/>
          <a:stretch/>
        </p:blipFill>
        <p:spPr>
          <a:xfrm>
            <a:off x="6643800" y="214200"/>
            <a:ext cx="2068560" cy="107172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9" descr="Banner Orizontal Essay_Logo Asociatie_lowQ.png"/>
          <p:cNvPicPr/>
          <p:nvPr/>
        </p:nvPicPr>
        <p:blipFill>
          <a:blip r:embed="rId3"/>
          <a:stretch/>
        </p:blipFill>
        <p:spPr>
          <a:xfrm>
            <a:off x="285840" y="5067360"/>
            <a:ext cx="5276880" cy="16477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1"/>
          <p:cNvSpPr/>
          <p:nvPr/>
        </p:nvSpPr>
        <p:spPr>
          <a:xfrm>
            <a:off x="457200" y="1143000"/>
            <a:ext cx="4343400" cy="34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Organizat pe 2 categorii de varsta: </a:t>
            </a:r>
            <a:r>
              <a:rPr b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11-14 ani </a:t>
            </a:r>
            <a:r>
              <a:rPr b="0" lang="ro-RO" sz="1800" spc="-1" strike="noStrike">
                <a:solidFill>
                  <a:srgbClr val="000000"/>
                </a:solidFill>
                <a:latin typeface="Open Sans"/>
                <a:ea typeface="Open Sans"/>
              </a:rPr>
              <a:t>si </a:t>
            </a:r>
            <a:r>
              <a:rPr b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15-19 ani</a:t>
            </a:r>
            <a:r>
              <a:rPr b="0" lang="ro-RO" sz="1800" spc="-1" strike="noStrike">
                <a:solidFill>
                  <a:srgbClr val="000000"/>
                </a:solidFill>
                <a:latin typeface="Open Sans"/>
                <a:ea typeface="Open Sans"/>
              </a:rPr>
              <a:t>, </a:t>
            </a: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cu teme adecvate fiecarei grupe de varsta in par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Obiective</a:t>
            </a:r>
            <a:r>
              <a:rPr b="0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promovarea creativitatii ca parte a procesului de life-long learn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promovarea gandirii creative si a sensibilitatii emotiona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largirea accesului tinerilor la exprimare creativ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Text Box 2"/>
          <p:cNvSpPr/>
          <p:nvPr/>
        </p:nvSpPr>
        <p:spPr>
          <a:xfrm>
            <a:off x="4952880" y="1752480"/>
            <a:ext cx="3886200" cy="23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 algn="just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Vrem ca acest concurs să fie organizat anual, devenind astfel o </a:t>
            </a:r>
            <a:r>
              <a:rPr b="0" i="1" lang="ro-RO" sz="1600" spc="-1" strike="noStrike" u="sng">
                <a:solidFill>
                  <a:srgbClr val="5d6967"/>
                </a:solidFill>
                <a:uFillTx/>
                <a:latin typeface="Open Sans"/>
                <a:ea typeface="Open Sans"/>
              </a:rPr>
              <a:t>tradiţie</a:t>
            </a:r>
            <a:r>
              <a:rPr b="0" i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. An de an, vom oferi tinerilor creativi oportunitatea de a-si folosi talentul si imaginatia, punandu-si in valoare potentialul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380880" y="212760"/>
            <a:ext cx="44960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o-RO" sz="3600" spc="-1" strike="noStrike">
                <a:solidFill>
                  <a:srgbClr val="70215f"/>
                </a:solidFill>
                <a:latin typeface="Open Sans"/>
                <a:ea typeface="Open Sans"/>
              </a:rPr>
              <a:t>Despre concur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6" name="Picture 4" descr=""/>
          <p:cNvPicPr/>
          <p:nvPr/>
        </p:nvPicPr>
        <p:blipFill>
          <a:blip r:embed="rId2"/>
          <a:stretch/>
        </p:blipFill>
        <p:spPr>
          <a:xfrm>
            <a:off x="5410080" y="3505320"/>
            <a:ext cx="3353040" cy="2514600"/>
          </a:xfrm>
          <a:prstGeom prst="rect">
            <a:avLst/>
          </a:prstGeom>
          <a:ln w="0">
            <a:noFill/>
          </a:ln>
        </p:spPr>
      </p:pic>
      <p:sp>
        <p:nvSpPr>
          <p:cNvPr id="547" name="Rectangle 5"/>
          <p:cNvSpPr/>
          <p:nvPr/>
        </p:nvSpPr>
        <p:spPr>
          <a:xfrm>
            <a:off x="533520" y="4343400"/>
            <a:ext cx="4647960" cy="778680"/>
          </a:xfrm>
          <a:prstGeom prst="rect">
            <a:avLst/>
          </a:prstGeom>
          <a:noFill/>
          <a:ln cap="sq" w="936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ro-RO" sz="1500" spc="-1" strike="noStrike">
                <a:solidFill>
                  <a:srgbClr val="5d6967"/>
                </a:solidFill>
                <a:latin typeface="Open Sans"/>
              </a:rPr>
              <a:t>Incercam sa iesim din sabloane, din testele grila pentru a-i incuraja pe copii si tineri sa gandeasca, sa inoveze, sa  creeze ... in limba lui Shakespeare!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550440" y="6411960"/>
            <a:ext cx="789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</a:rPr>
              <a:t>Participarea este gratuita si deschisa tuturor tinerilor din Romania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9" name="Picture 9" descr="Logo Asociatia SS pentru Educatie_220.jpg"/>
          <p:cNvPicPr/>
          <p:nvPr/>
        </p:nvPicPr>
        <p:blipFill>
          <a:blip r:embed="rId3"/>
          <a:stretch/>
        </p:blipFill>
        <p:spPr>
          <a:xfrm>
            <a:off x="6715080" y="142920"/>
            <a:ext cx="2068560" cy="107136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9" descr="Banner Orizontal Essay_Logo Asociatie_lowQ.png"/>
          <p:cNvPicPr/>
          <p:nvPr/>
        </p:nvPicPr>
        <p:blipFill>
          <a:blip r:embed="rId4"/>
          <a:stretch/>
        </p:blipFill>
        <p:spPr>
          <a:xfrm>
            <a:off x="500040" y="5286240"/>
            <a:ext cx="3432240" cy="10717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Text Box 1"/>
          <p:cNvSpPr/>
          <p:nvPr/>
        </p:nvSpPr>
        <p:spPr>
          <a:xfrm>
            <a:off x="380880" y="372960"/>
            <a:ext cx="815364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o-RO" sz="3000" spc="-1" strike="noStrike">
                <a:solidFill>
                  <a:srgbClr val="70215f"/>
                </a:solidFill>
                <a:latin typeface="Open Sans"/>
                <a:ea typeface="Open Sans"/>
              </a:rPr>
              <a:t>Essay Competition in Cifre</a:t>
            </a:r>
            <a:br>
              <a:rPr sz="3000"/>
            </a:br>
            <a:r>
              <a:rPr b="1" lang="ro-RO" sz="3000" spc="-1" strike="noStrike">
                <a:solidFill>
                  <a:srgbClr val="70215f"/>
                </a:solidFill>
                <a:latin typeface="Open Sans"/>
                <a:ea typeface="Open Sans"/>
              </a:rPr>
              <a:t>2009 - 201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Text Box 2"/>
          <p:cNvSpPr/>
          <p:nvPr/>
        </p:nvSpPr>
        <p:spPr>
          <a:xfrm>
            <a:off x="655560" y="1317600"/>
            <a:ext cx="739152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12 tineri </a:t>
            </a:r>
            <a:r>
              <a:rPr b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premiati cu scoli de vara la Cambridge, Oxfo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144 tineri finalisti </a:t>
            </a:r>
            <a:r>
              <a:rPr b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premiati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400" spc="-1" strike="noStrike">
                <a:solidFill>
                  <a:srgbClr val="5d6967"/>
                </a:solidFill>
                <a:latin typeface="Open Sans"/>
                <a:ea typeface="Open Sans"/>
              </a:rPr>
              <a:t>Cursuri gratuite la Shakespeare Schoo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400" spc="-1" strike="noStrike">
                <a:solidFill>
                  <a:srgbClr val="5d6967"/>
                </a:solidFill>
                <a:latin typeface="Open Sans"/>
                <a:ea typeface="Open Sans"/>
              </a:rPr>
              <a:t>Taxe de examen Cambridge oferite de British Counci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400" spc="-1" strike="noStrike">
                <a:solidFill>
                  <a:srgbClr val="5d6967"/>
                </a:solidFill>
                <a:latin typeface="Open Sans"/>
                <a:ea typeface="Open Sans"/>
              </a:rPr>
              <a:t>Carti, dictionare et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Peste 13.500 eseuri inscrise </a:t>
            </a:r>
            <a:r>
              <a:rPr b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in cele 4 edit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Au participat tineri din </a:t>
            </a: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peste 350 de localitati din Romania: </a:t>
            </a:r>
            <a:r>
              <a:rPr b="0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 </a:t>
            </a:r>
            <a:r>
              <a:rPr b="0" lang="ro-RO" sz="1400" spc="-1" strike="noStrike">
                <a:solidFill>
                  <a:srgbClr val="70215f"/>
                </a:solidFill>
                <a:latin typeface="Open Sans"/>
                <a:ea typeface="Open Sans"/>
              </a:rPr>
              <a:t>Bucuresti, Cluj-Napoca, Craiova, Focsani, Galati ,Hateg, Iasi, Oradea, Pascani, Petrosani, Piatra Neamt, Pitesti, Ploiesti, Ramnicu Valcea, Roman, Rosiori de Vede, Sibiu, Sighetul Marmatiei, Suceava, Targoviste,Tecuci,Urzicen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3" name="Picture 5" descr="Logo Asociatia SS pentru Educatie_220.jpg"/>
          <p:cNvPicPr/>
          <p:nvPr/>
        </p:nvPicPr>
        <p:blipFill>
          <a:blip r:embed="rId2"/>
          <a:stretch/>
        </p:blipFill>
        <p:spPr>
          <a:xfrm>
            <a:off x="6718320" y="142920"/>
            <a:ext cx="2068560" cy="107136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5" descr="Banner Orizontal Essay_Logo Asociatie_lowQ.png"/>
          <p:cNvPicPr/>
          <p:nvPr/>
        </p:nvPicPr>
        <p:blipFill>
          <a:blip r:embed="rId3"/>
          <a:stretch/>
        </p:blipFill>
        <p:spPr>
          <a:xfrm>
            <a:off x="795240" y="4929120"/>
            <a:ext cx="5276880" cy="16477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1"/>
          <p:cNvSpPr/>
          <p:nvPr/>
        </p:nvSpPr>
        <p:spPr>
          <a:xfrm>
            <a:off x="380880" y="220680"/>
            <a:ext cx="419112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o-RO" sz="3000" spc="-1" strike="noStrike">
                <a:solidFill>
                  <a:srgbClr val="70215f"/>
                </a:solidFill>
                <a:latin typeface="Open Sans"/>
                <a:ea typeface="Open Sans"/>
              </a:rPr>
              <a:t>Povesti de Succes</a:t>
            </a:r>
            <a:br>
              <a:rPr sz="3000"/>
            </a:br>
            <a:r>
              <a:rPr b="1" lang="ro-RO" sz="3000" spc="-1" strike="noStrike">
                <a:solidFill>
                  <a:srgbClr val="70215f"/>
                </a:solidFill>
                <a:latin typeface="Open Sans"/>
                <a:ea typeface="Open Sans"/>
              </a:rPr>
              <a:t>Essay Competi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Text Box 2"/>
          <p:cNvSpPr/>
          <p:nvPr/>
        </p:nvSpPr>
        <p:spPr>
          <a:xfrm>
            <a:off x="380880" y="2590920"/>
            <a:ext cx="5715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“</a:t>
            </a:r>
            <a:r>
              <a:rPr b="1" i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Pot zice cu mana pe inima ca ESSAY COMPETITION mi-a schimbat atat viitorul cat si perspectiva mea asupra lumii.”  </a:t>
            </a:r>
            <a:r>
              <a:rPr b="0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Mircea Neic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700" spc="-1" strike="noStrike">
                <a:solidFill>
                  <a:srgbClr val="70215f"/>
                </a:solidFill>
                <a:latin typeface="Open Sans"/>
                <a:ea typeface="Open Sans"/>
              </a:rPr>
              <a:t>Mircea Neicu </a:t>
            </a:r>
            <a:r>
              <a:rPr b="0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este un tanar din Orsova care nu depasise niciodata granitele Romaniei  si caruia premiul de la Essay Competition i-a </a:t>
            </a:r>
            <a:r>
              <a:rPr b="1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deschis porti</a:t>
            </a:r>
            <a:r>
              <a:rPr b="0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 si i-a </a:t>
            </a:r>
            <a:r>
              <a:rPr b="1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schimbat drumul in viata</a:t>
            </a:r>
            <a:r>
              <a:rPr b="0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clasandu-se pe locul I a castigat o tabara de engleza la </a:t>
            </a:r>
            <a:r>
              <a:rPr b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Universitatea Cambrid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participarea la tabara de vara i-a sporit increderea in fortele propri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a aplicat apoi la mai multe facultati din Marea Britanie si acum studiaza la </a:t>
            </a:r>
            <a:r>
              <a:rPr b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Lancaster Univers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7" name="Picture 4" descr=""/>
          <p:cNvPicPr/>
          <p:nvPr/>
        </p:nvPicPr>
        <p:blipFill>
          <a:blip r:embed="rId2"/>
          <a:stretch/>
        </p:blipFill>
        <p:spPr>
          <a:xfrm>
            <a:off x="6477120" y="3276720"/>
            <a:ext cx="2133360" cy="274320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6" descr="Logo Asociatia SS pentru Educatie_220.jpg"/>
          <p:cNvPicPr/>
          <p:nvPr/>
        </p:nvPicPr>
        <p:blipFill>
          <a:blip r:embed="rId3"/>
          <a:stretch/>
        </p:blipFill>
        <p:spPr>
          <a:xfrm>
            <a:off x="6643800" y="142920"/>
            <a:ext cx="2068560" cy="107136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6" descr="Banner Orizontal Essay_Logo Asociatie_lowQ.png"/>
          <p:cNvPicPr/>
          <p:nvPr/>
        </p:nvPicPr>
        <p:blipFill>
          <a:blip r:embed="rId4"/>
          <a:stretch/>
        </p:blipFill>
        <p:spPr>
          <a:xfrm>
            <a:off x="428760" y="1214280"/>
            <a:ext cx="4214520" cy="13161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ext Box 1"/>
          <p:cNvSpPr/>
          <p:nvPr/>
        </p:nvSpPr>
        <p:spPr>
          <a:xfrm>
            <a:off x="304920" y="76320"/>
            <a:ext cx="81532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o-RO" sz="4400" spc="-1" strike="noStrike">
                <a:solidFill>
                  <a:srgbClr val="70215f"/>
                </a:solidFill>
                <a:latin typeface="Open Sans"/>
                <a:ea typeface="Open Sans"/>
              </a:rPr>
              <a:t>Prima editie (2009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Text Box 2"/>
          <p:cNvSpPr/>
          <p:nvPr/>
        </p:nvSpPr>
        <p:spPr>
          <a:xfrm>
            <a:off x="304920" y="2286000"/>
            <a:ext cx="42670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400" spc="-1" strike="noStrike">
                <a:solidFill>
                  <a:srgbClr val="70215f"/>
                </a:solidFill>
                <a:latin typeface="Open Sans"/>
                <a:ea typeface="Open Sans"/>
              </a:rPr>
              <a:t> </a:t>
            </a:r>
            <a:r>
              <a:rPr b="1" lang="ro-RO" sz="2400" spc="-1" strike="noStrike">
                <a:solidFill>
                  <a:srgbClr val="70215f"/>
                </a:solidFill>
                <a:latin typeface="Open Sans"/>
                <a:ea typeface="Open Sans"/>
              </a:rPr>
              <a:t>Lansare: </a:t>
            </a:r>
            <a:r>
              <a:rPr b="1" lang="ro-RO" sz="2400" spc="-1" strike="noStrike">
                <a:solidFill>
                  <a:srgbClr val="5d6967"/>
                </a:solidFill>
                <a:latin typeface="Open Sans"/>
                <a:ea typeface="Open Sans"/>
              </a:rPr>
              <a:t>mai 2009</a:t>
            </a:r>
            <a:r>
              <a:rPr b="0" lang="ro-RO" sz="2400" spc="-1" strike="noStrike">
                <a:solidFill>
                  <a:srgbClr val="5d6967"/>
                </a:solidFill>
                <a:latin typeface="Open Sans"/>
                <a:ea typeface="Open Sans"/>
              </a:rPr>
              <a:t>, sub egida Anului European al Creativitatii si Inovatie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400" spc="-1" strike="noStrike">
                <a:solidFill>
                  <a:srgbClr val="70215f"/>
                </a:solidFill>
                <a:latin typeface="Open Sans"/>
                <a:ea typeface="Open Sans"/>
              </a:rPr>
              <a:t>Peste 200 eseuri </a:t>
            </a:r>
            <a:r>
              <a:rPr b="0" lang="ro-RO" sz="2400" spc="-1" strike="noStrike">
                <a:solidFill>
                  <a:srgbClr val="5d6967"/>
                </a:solidFill>
                <a:latin typeface="Open Sans"/>
                <a:ea typeface="Open Sans"/>
              </a:rPr>
              <a:t>in limba engleza primite de la tineri din Capitala si din toata ta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400" spc="-1" strike="noStrike">
                <a:solidFill>
                  <a:srgbClr val="70215f"/>
                </a:solidFill>
                <a:latin typeface="Open Sans"/>
                <a:ea typeface="Open Sans"/>
              </a:rPr>
              <a:t>Premii: </a:t>
            </a:r>
            <a:r>
              <a:rPr b="0" lang="ro-RO" sz="2400" spc="-1" strike="noStrike">
                <a:solidFill>
                  <a:srgbClr val="595959"/>
                </a:solidFill>
                <a:latin typeface="Open Sans"/>
                <a:ea typeface="Open Sans"/>
              </a:rPr>
              <a:t>cursuri de vara de limba engleza la Shakespeare School, carti, diction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Text Box 3"/>
          <p:cNvSpPr/>
          <p:nvPr/>
        </p:nvSpPr>
        <p:spPr>
          <a:xfrm>
            <a:off x="4800600" y="2209680"/>
            <a:ext cx="41911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400" spc="-1" strike="noStrike">
                <a:solidFill>
                  <a:srgbClr val="70215f"/>
                </a:solidFill>
                <a:latin typeface="Open Sans"/>
                <a:ea typeface="Open Sans"/>
              </a:rPr>
              <a:t>Amploare: nationala </a:t>
            </a:r>
            <a:r>
              <a:rPr b="0" lang="ro-RO" sz="2400" spc="-1" strike="noStrike">
                <a:solidFill>
                  <a:srgbClr val="5d6967"/>
                </a:solidFill>
                <a:latin typeface="Open Sans"/>
                <a:ea typeface="Open Sans"/>
              </a:rPr>
              <a:t>(participanti de la Suceava la Corabia, din Maramures pana la Faurei, Buzau, Brasov, Cluj, Arad, Constanta, Craiova, et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400" spc="-1" strike="noStrike">
                <a:solidFill>
                  <a:srgbClr val="70215f"/>
                </a:solidFill>
                <a:latin typeface="Open Sans"/>
                <a:ea typeface="Open Sans"/>
              </a:rPr>
              <a:t>Parteneri: </a:t>
            </a:r>
            <a:r>
              <a:rPr b="0" lang="ro-RO" sz="2400" spc="-1" strike="noStrike">
                <a:solidFill>
                  <a:srgbClr val="5d6967"/>
                </a:solidFill>
                <a:latin typeface="Open Sans"/>
                <a:ea typeface="Open Sans"/>
              </a:rPr>
              <a:t>British Council, Radio Romania Actualitati, Radio Itsy Bitsy, TVR Cultural, Studentie.r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3" name="Picture 6" descr="Logo Asociatia SS pentru Educatie_220.jpg"/>
          <p:cNvPicPr/>
          <p:nvPr/>
        </p:nvPicPr>
        <p:blipFill>
          <a:blip r:embed="rId2"/>
          <a:stretch/>
        </p:blipFill>
        <p:spPr>
          <a:xfrm>
            <a:off x="6718320" y="214200"/>
            <a:ext cx="2068560" cy="107172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6" descr="Banner Orizontal Essay_Logo Asociatie_lowQ.png"/>
          <p:cNvPicPr/>
          <p:nvPr/>
        </p:nvPicPr>
        <p:blipFill>
          <a:blip r:embed="rId3"/>
          <a:stretch/>
        </p:blipFill>
        <p:spPr>
          <a:xfrm>
            <a:off x="500040" y="857160"/>
            <a:ext cx="4357800" cy="13604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 Box 1"/>
          <p:cNvSpPr/>
          <p:nvPr/>
        </p:nvSpPr>
        <p:spPr>
          <a:xfrm>
            <a:off x="228600" y="0"/>
            <a:ext cx="8610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o-RO" sz="4200" spc="-1" strike="noStrike">
                <a:solidFill>
                  <a:srgbClr val="70215f"/>
                </a:solidFill>
                <a:latin typeface="Open Sans"/>
                <a:ea typeface="Open Sans"/>
              </a:rPr>
              <a:t>A doua editie (2010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Text Box 2"/>
          <p:cNvSpPr/>
          <p:nvPr/>
        </p:nvSpPr>
        <p:spPr>
          <a:xfrm>
            <a:off x="304920" y="2209680"/>
            <a:ext cx="42670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100" spc="-1" strike="noStrike">
                <a:solidFill>
                  <a:srgbClr val="70215f"/>
                </a:solidFill>
                <a:latin typeface="Open Sans"/>
                <a:ea typeface="Open Sans"/>
              </a:rPr>
              <a:t>Lansare: </a:t>
            </a:r>
            <a:r>
              <a:rPr b="1" lang="ro-RO" sz="2100" spc="-1" strike="noStrike">
                <a:solidFill>
                  <a:srgbClr val="5d6967"/>
                </a:solidFill>
                <a:latin typeface="Open Sans"/>
                <a:ea typeface="Open Sans"/>
              </a:rPr>
              <a:t>martie 2010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100" spc="-1" strike="noStrike" u="sng">
                <a:solidFill>
                  <a:srgbClr val="70215f"/>
                </a:solidFill>
                <a:uFillTx/>
                <a:latin typeface="Open Sans"/>
                <a:ea typeface="Open Sans"/>
              </a:rPr>
              <a:t>3100 de eseuri </a:t>
            </a:r>
            <a:r>
              <a:rPr b="1" lang="ro-RO" sz="2100" spc="-1" strike="noStrike">
                <a:solidFill>
                  <a:srgbClr val="5d6967"/>
                </a:solidFill>
                <a:latin typeface="Open Sans"/>
                <a:ea typeface="Open Sans"/>
              </a:rPr>
              <a:t>in limba engleza primite de la tineri din intreaga tara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100" spc="-1" strike="noStrike">
                <a:solidFill>
                  <a:srgbClr val="70215f"/>
                </a:solidFill>
                <a:latin typeface="Open Sans"/>
                <a:ea typeface="Open Sans"/>
              </a:rPr>
              <a:t>Premii: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5d6967"/>
              </a:buClr>
              <a:buFont typeface="Open Sans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606060"/>
                </a:solidFill>
                <a:latin typeface="Open Sans"/>
                <a:ea typeface="Open Sans"/>
              </a:rPr>
              <a:t>Scoli de vara de limba engleza in UK – Cambridge si Oxford (in valoare de peste 1500 euro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317520" indent="-317520">
              <a:lnSpc>
                <a:spcPct val="100000"/>
              </a:lnSpc>
              <a:spcBef>
                <a:spcPts val="700"/>
              </a:spcBef>
              <a:buClr>
                <a:srgbClr val="5d6967"/>
              </a:buClr>
              <a:buFont typeface="Open Sans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606060"/>
                </a:solidFill>
                <a:latin typeface="Open Sans"/>
                <a:ea typeface="Open Sans"/>
              </a:rPr>
              <a:t>Taxe pentru examene Cambridge oferite de British Counci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5d6967"/>
              </a:buClr>
              <a:buFont typeface="Open Sans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606060"/>
                </a:solidFill>
                <a:latin typeface="Open Sans"/>
                <a:ea typeface="Open Sans"/>
              </a:rPr>
              <a:t>Cursuri de vara de limba engleza la Shakespeare School, carti, dictiona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Text Box 3"/>
          <p:cNvSpPr/>
          <p:nvPr/>
        </p:nvSpPr>
        <p:spPr>
          <a:xfrm>
            <a:off x="4648320" y="2209680"/>
            <a:ext cx="42670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200" spc="-1" strike="noStrike">
                <a:solidFill>
                  <a:srgbClr val="70215f"/>
                </a:solidFill>
                <a:latin typeface="Open Sans"/>
                <a:ea typeface="Open Sans"/>
              </a:rPr>
              <a:t>Amploare: </a:t>
            </a:r>
            <a:r>
              <a:rPr b="1" lang="ro-RO" sz="2200" spc="-1" strike="noStrike">
                <a:solidFill>
                  <a:srgbClr val="5d6967"/>
                </a:solidFill>
                <a:latin typeface="Open Sans"/>
                <a:ea typeface="Open Sans"/>
              </a:rPr>
              <a:t>nationala </a:t>
            </a:r>
            <a:r>
              <a:rPr b="0" lang="ro-RO" sz="2200" spc="-1" strike="noStrike">
                <a:solidFill>
                  <a:srgbClr val="323232"/>
                </a:solidFill>
                <a:latin typeface="Open Sans"/>
                <a:ea typeface="Open Sans"/>
              </a:rPr>
              <a:t>(participanti din </a:t>
            </a:r>
            <a:r>
              <a:rPr b="1" lang="ro-RO" sz="2200" spc="-1" strike="noStrike">
                <a:solidFill>
                  <a:srgbClr val="70215f"/>
                </a:solidFill>
                <a:latin typeface="Open Sans"/>
                <a:ea typeface="Open Sans"/>
              </a:rPr>
              <a:t>peste 350 de localitati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200" spc="-1" strike="noStrike">
                <a:solidFill>
                  <a:srgbClr val="70215f"/>
                </a:solidFill>
                <a:latin typeface="Open Sans"/>
                <a:ea typeface="Open Sans"/>
              </a:rPr>
              <a:t>Sprijin: </a:t>
            </a:r>
            <a:r>
              <a:rPr b="0" lang="ro-RO" sz="2200" spc="-1" strike="noStrike">
                <a:solidFill>
                  <a:srgbClr val="323232"/>
                </a:solidFill>
                <a:latin typeface="Open Sans"/>
                <a:ea typeface="Open Sans"/>
              </a:rPr>
              <a:t>British Council, Inspectoratele scolare, asociatiile de profesor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200" spc="-1" strike="noStrike">
                <a:solidFill>
                  <a:srgbClr val="70215f"/>
                </a:solidFill>
                <a:latin typeface="Open Sans"/>
                <a:ea typeface="Open Sans"/>
              </a:rPr>
              <a:t>Parteneri media</a:t>
            </a:r>
            <a:r>
              <a:rPr b="0" lang="ro-RO" sz="2200" spc="-1" strike="noStrike">
                <a:solidFill>
                  <a:srgbClr val="70215f"/>
                </a:solidFill>
                <a:latin typeface="Open Sans"/>
                <a:ea typeface="Open Sans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8" name="Picture 4" descr=""/>
          <p:cNvPicPr/>
          <p:nvPr/>
        </p:nvPicPr>
        <p:blipFill>
          <a:blip r:embed="rId2"/>
          <a:stretch/>
        </p:blipFill>
        <p:spPr>
          <a:xfrm>
            <a:off x="5018040" y="6121440"/>
            <a:ext cx="1306440" cy="43164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5" descr=""/>
          <p:cNvPicPr/>
          <p:nvPr/>
        </p:nvPicPr>
        <p:blipFill>
          <a:blip r:embed="rId3"/>
          <a:stretch/>
        </p:blipFill>
        <p:spPr>
          <a:xfrm>
            <a:off x="6496200" y="6076800"/>
            <a:ext cx="1504800" cy="47628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6" descr=""/>
          <p:cNvPicPr/>
          <p:nvPr/>
        </p:nvPicPr>
        <p:blipFill>
          <a:blip r:embed="rId4"/>
          <a:stretch/>
        </p:blipFill>
        <p:spPr>
          <a:xfrm>
            <a:off x="4854600" y="4896000"/>
            <a:ext cx="1174680" cy="51408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7" descr=""/>
          <p:cNvPicPr/>
          <p:nvPr/>
        </p:nvPicPr>
        <p:blipFill>
          <a:blip r:embed="rId5"/>
          <a:stretch/>
        </p:blipFill>
        <p:spPr>
          <a:xfrm>
            <a:off x="6095880" y="5029200"/>
            <a:ext cx="990720" cy="38088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8" descr=""/>
          <p:cNvPicPr/>
          <p:nvPr/>
        </p:nvPicPr>
        <p:blipFill>
          <a:blip r:embed="rId6"/>
          <a:stretch/>
        </p:blipFill>
        <p:spPr>
          <a:xfrm>
            <a:off x="7162920" y="4933800"/>
            <a:ext cx="1730160" cy="43848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9" descr=""/>
          <p:cNvPicPr/>
          <p:nvPr/>
        </p:nvPicPr>
        <p:blipFill>
          <a:blip r:embed="rId7"/>
          <a:stretch/>
        </p:blipFill>
        <p:spPr>
          <a:xfrm>
            <a:off x="5029200" y="5495760"/>
            <a:ext cx="1247760" cy="52416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10" descr=""/>
          <p:cNvPicPr/>
          <p:nvPr/>
        </p:nvPicPr>
        <p:blipFill>
          <a:blip r:embed="rId8"/>
          <a:stretch/>
        </p:blipFill>
        <p:spPr>
          <a:xfrm>
            <a:off x="6400800" y="5562720"/>
            <a:ext cx="1219320" cy="38088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11" descr=""/>
          <p:cNvPicPr/>
          <p:nvPr/>
        </p:nvPicPr>
        <p:blipFill>
          <a:blip r:embed="rId9"/>
          <a:stretch/>
        </p:blipFill>
        <p:spPr>
          <a:xfrm>
            <a:off x="7696080" y="5572080"/>
            <a:ext cx="1054080" cy="37152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14" descr="Logo Asociatia SS pentru Educatie_220.jpg"/>
          <p:cNvPicPr/>
          <p:nvPr/>
        </p:nvPicPr>
        <p:blipFill>
          <a:blip r:embed="rId10"/>
          <a:stretch/>
        </p:blipFill>
        <p:spPr>
          <a:xfrm>
            <a:off x="6718320" y="214200"/>
            <a:ext cx="2068560" cy="107172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14" descr="Banner Orizontal Essay_Logo Asociatie_lowQ.png"/>
          <p:cNvPicPr/>
          <p:nvPr/>
        </p:nvPicPr>
        <p:blipFill>
          <a:blip r:embed="rId11"/>
          <a:stretch/>
        </p:blipFill>
        <p:spPr>
          <a:xfrm>
            <a:off x="285840" y="785880"/>
            <a:ext cx="4214880" cy="13158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1"/>
          <p:cNvSpPr/>
          <p:nvPr/>
        </p:nvSpPr>
        <p:spPr>
          <a:xfrm>
            <a:off x="304920" y="-76320"/>
            <a:ext cx="8839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o-RO" sz="4200" spc="-1" strike="noStrike">
                <a:solidFill>
                  <a:srgbClr val="70215f"/>
                </a:solidFill>
                <a:latin typeface="Open Sans"/>
                <a:ea typeface="Open Sans"/>
              </a:rPr>
              <a:t>A treia editie (2011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Text Box 3"/>
          <p:cNvSpPr/>
          <p:nvPr/>
        </p:nvSpPr>
        <p:spPr>
          <a:xfrm>
            <a:off x="152280" y="2286000"/>
            <a:ext cx="3733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8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700" spc="-1" strike="noStrike">
                <a:solidFill>
                  <a:srgbClr val="70215f"/>
                </a:solidFill>
                <a:latin typeface="Open Sans"/>
                <a:ea typeface="Open Sans"/>
              </a:rPr>
              <a:t>Lansare: </a:t>
            </a:r>
            <a:r>
              <a:rPr b="1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februarie 2011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700" spc="-1" strike="noStrike" u="sng">
                <a:solidFill>
                  <a:srgbClr val="70215f"/>
                </a:solidFill>
                <a:uFillTx/>
                <a:latin typeface="Open Sans"/>
                <a:ea typeface="Open Sans"/>
              </a:rPr>
              <a:t>5111 de eseuri </a:t>
            </a:r>
            <a:r>
              <a:rPr b="1" lang="ro-RO" sz="1700" spc="-1" strike="noStrike">
                <a:solidFill>
                  <a:srgbClr val="70215f"/>
                </a:solidFill>
                <a:latin typeface="Open Sans"/>
                <a:ea typeface="Open Sans"/>
              </a:rPr>
              <a:t>in limba engleza </a:t>
            </a:r>
            <a:r>
              <a:rPr b="1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primite de la tineri din intreaga tara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700" spc="-1" strike="noStrike">
                <a:solidFill>
                  <a:srgbClr val="70215f"/>
                </a:solidFill>
                <a:latin typeface="Open Sans"/>
                <a:ea typeface="Open Sans"/>
              </a:rPr>
              <a:t>Premii: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80000"/>
              </a:lnSpc>
              <a:spcBef>
                <a:spcPts val="550"/>
              </a:spcBef>
              <a:buClr>
                <a:srgbClr val="5d6967"/>
              </a:buClr>
              <a:buFont typeface="Open Sans"/>
              <a:buChar char="-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0" lang="ro-RO" sz="1500" spc="-1" strike="noStrike">
                <a:solidFill>
                  <a:srgbClr val="606060"/>
                </a:solidFill>
                <a:latin typeface="Open Sans"/>
                <a:ea typeface="Open Sans"/>
              </a:rPr>
              <a:t>4 scoli de vara de limba engleza in UK: Cambridge si Oxford (in valoare de peste 1500 euro)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80000"/>
              </a:lnSpc>
              <a:spcBef>
                <a:spcPts val="550"/>
              </a:spcBef>
              <a:buClr>
                <a:srgbClr val="5d6967"/>
              </a:buClr>
              <a:buFont typeface="Open Sans"/>
              <a:buChar char="-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0" lang="ro-RO" sz="1500" spc="-1" strike="noStrike">
                <a:solidFill>
                  <a:srgbClr val="606060"/>
                </a:solidFill>
                <a:latin typeface="Open Sans"/>
                <a:ea typeface="Open Sans"/>
              </a:rPr>
              <a:t>Taxe pentru examene Cambridge oferite de British Council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80000"/>
              </a:lnSpc>
              <a:spcBef>
                <a:spcPts val="550"/>
              </a:spcBef>
              <a:buClr>
                <a:srgbClr val="5d6967"/>
              </a:buClr>
              <a:buFont typeface="Open Sans"/>
              <a:buChar char="-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0" lang="ro-RO" sz="1500" spc="-1" strike="noStrike">
                <a:solidFill>
                  <a:srgbClr val="606060"/>
                </a:solidFill>
                <a:latin typeface="Open Sans"/>
                <a:ea typeface="Open Sans"/>
              </a:rPr>
              <a:t>Cursuri de vara de limba engleza la Shakespeare School, carti, dictionar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700"/>
              </a:spcBef>
              <a:buClr>
                <a:srgbClr val="70215f"/>
              </a:buClr>
              <a:buFont typeface="Courier New"/>
              <a:buChar char="o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700" spc="-1" strike="noStrike">
                <a:solidFill>
                  <a:srgbClr val="70215f"/>
                </a:solidFill>
                <a:latin typeface="Open Sans"/>
                <a:ea typeface="Open Sans"/>
              </a:rPr>
              <a:t>Amploare: </a:t>
            </a:r>
            <a:r>
              <a:rPr b="1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nationala </a:t>
            </a:r>
            <a:r>
              <a:rPr b="0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(participanti din </a:t>
            </a:r>
            <a:r>
              <a:rPr b="1" lang="ro-RO" sz="1700" spc="-1" strike="noStrike">
                <a:solidFill>
                  <a:srgbClr val="70215f"/>
                </a:solidFill>
                <a:latin typeface="Open Sans"/>
                <a:ea typeface="Open Sans"/>
              </a:rPr>
              <a:t>peste 350 de localitati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0" name="Picture 4" descr=""/>
          <p:cNvPicPr/>
          <p:nvPr/>
        </p:nvPicPr>
        <p:blipFill>
          <a:blip r:embed="rId2"/>
          <a:stretch/>
        </p:blipFill>
        <p:spPr>
          <a:xfrm>
            <a:off x="3960720" y="1981080"/>
            <a:ext cx="4954680" cy="487692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6" descr="Logo Asociatia SS pentru Educatie_220.jpg"/>
          <p:cNvPicPr/>
          <p:nvPr/>
        </p:nvPicPr>
        <p:blipFill>
          <a:blip r:embed="rId3"/>
          <a:stretch/>
        </p:blipFill>
        <p:spPr>
          <a:xfrm>
            <a:off x="6718320" y="214200"/>
            <a:ext cx="2068560" cy="107172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6" descr="Banner Orizontal Essay_Logo Asociatie_lowQ.png"/>
          <p:cNvPicPr/>
          <p:nvPr/>
        </p:nvPicPr>
        <p:blipFill>
          <a:blip r:embed="rId4"/>
          <a:stretch/>
        </p:blipFill>
        <p:spPr>
          <a:xfrm>
            <a:off x="428760" y="777960"/>
            <a:ext cx="4143240" cy="12938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Text Box 1"/>
          <p:cNvSpPr/>
          <p:nvPr/>
        </p:nvSpPr>
        <p:spPr>
          <a:xfrm>
            <a:off x="304920" y="0"/>
            <a:ext cx="8839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o-RO" sz="4200" spc="-1" strike="noStrike">
                <a:solidFill>
                  <a:srgbClr val="70215f"/>
                </a:solidFill>
                <a:latin typeface="Open Sans"/>
                <a:ea typeface="Open Sans"/>
              </a:rPr>
              <a:t>A patra editie (2012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ext Box 3"/>
          <p:cNvSpPr/>
          <p:nvPr/>
        </p:nvSpPr>
        <p:spPr>
          <a:xfrm>
            <a:off x="152280" y="2209680"/>
            <a:ext cx="3810240" cy="44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600" spc="-1" strike="noStrike">
                <a:solidFill>
                  <a:srgbClr val="70215f"/>
                </a:solidFill>
                <a:latin typeface="Open Sans"/>
                <a:ea typeface="Open Sans"/>
              </a:rPr>
              <a:t>Lansare: </a:t>
            </a:r>
            <a:r>
              <a:rPr b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februarie 20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600" spc="-1" strike="noStrike" u="sng">
                <a:solidFill>
                  <a:srgbClr val="70215f"/>
                </a:solidFill>
                <a:uFillTx/>
                <a:latin typeface="Open Sans"/>
                <a:ea typeface="Open Sans"/>
              </a:rPr>
              <a:t>Peste 4100 de eseuri </a:t>
            </a:r>
            <a:r>
              <a:rPr b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in limba engleza primite de la tineri din intreaga ta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600" spc="-1" strike="noStrike">
                <a:solidFill>
                  <a:srgbClr val="70215f"/>
                </a:solidFill>
                <a:latin typeface="Open Sans"/>
                <a:ea typeface="Open Sans"/>
              </a:rPr>
              <a:t>Premii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Arial"/>
              <a:buChar char="•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0" lang="ro-RO" sz="1500" spc="-1" strike="noStrike">
                <a:solidFill>
                  <a:srgbClr val="323232"/>
                </a:solidFill>
                <a:latin typeface="Open Sans"/>
                <a:ea typeface="Open Sans"/>
              </a:rPr>
              <a:t>scoli de vara de limba engleza in UK: </a:t>
            </a:r>
            <a:r>
              <a:rPr b="1" lang="ro-RO" sz="1500" spc="-1" strike="noStrike">
                <a:solidFill>
                  <a:srgbClr val="323232"/>
                </a:solidFill>
                <a:latin typeface="Open Sans"/>
                <a:ea typeface="Open Sans"/>
              </a:rPr>
              <a:t>Cambridge, Oxford, Clifton College, Harrow House </a:t>
            </a:r>
            <a:r>
              <a:rPr b="0" lang="ro-RO" sz="1500" spc="-1" strike="noStrike">
                <a:solidFill>
                  <a:srgbClr val="323232"/>
                </a:solidFill>
                <a:latin typeface="Open Sans"/>
                <a:ea typeface="Open Sans"/>
              </a:rPr>
              <a:t>(in valoare de peste 1500 lire fiecare)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Arial"/>
              <a:buChar char="•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0" lang="ro-RO" sz="1500" spc="-1" strike="noStrike">
                <a:solidFill>
                  <a:srgbClr val="323232"/>
                </a:solidFill>
                <a:latin typeface="Open Sans"/>
                <a:ea typeface="Open Sans"/>
              </a:rPr>
              <a:t>Taxe pentru examene Cambridge oferite de British Council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Arial"/>
              <a:buChar char="•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0" lang="ro-RO" sz="1500" spc="-1" strike="noStrike">
                <a:solidFill>
                  <a:srgbClr val="323232"/>
                </a:solidFill>
                <a:latin typeface="Open Sans"/>
                <a:ea typeface="Open Sans"/>
              </a:rPr>
              <a:t>cursuri de vara de limba engleza la Shakespeare School, carti, dictionar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Courier New"/>
              <a:buChar char="o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600" spc="-1" strike="noStrike">
                <a:solidFill>
                  <a:srgbClr val="70215f"/>
                </a:solidFill>
                <a:latin typeface="Open Sans"/>
                <a:ea typeface="Open Sans"/>
              </a:rPr>
              <a:t>Amploare: nationala</a:t>
            </a:r>
            <a:r>
              <a:rPr b="1" lang="ro-RO" sz="1600" spc="-1" strike="noStrike">
                <a:solidFill>
                  <a:srgbClr val="323232"/>
                </a:solidFill>
                <a:latin typeface="Open Sans"/>
                <a:ea typeface="Open Sans"/>
              </a:rPr>
              <a:t> </a:t>
            </a:r>
            <a:r>
              <a:rPr b="0" lang="ro-RO" sz="1600" spc="-1" strike="noStrike">
                <a:solidFill>
                  <a:srgbClr val="323232"/>
                </a:solidFill>
                <a:latin typeface="Open Sans"/>
                <a:ea typeface="Open Sans"/>
              </a:rPr>
              <a:t>(participanti din </a:t>
            </a:r>
            <a:r>
              <a:rPr b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peste 350 de localitati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5" name="Picture 4" descr=""/>
          <p:cNvPicPr/>
          <p:nvPr/>
        </p:nvPicPr>
        <p:blipFill>
          <a:blip r:embed="rId2"/>
          <a:stretch/>
        </p:blipFill>
        <p:spPr>
          <a:xfrm>
            <a:off x="3962520" y="2039760"/>
            <a:ext cx="4952880" cy="436104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6" descr="Logo Asociatia SS pentru Educatie_220.jpg"/>
          <p:cNvPicPr/>
          <p:nvPr/>
        </p:nvPicPr>
        <p:blipFill>
          <a:blip r:embed="rId3"/>
          <a:stretch/>
        </p:blipFill>
        <p:spPr>
          <a:xfrm>
            <a:off x="6718320" y="214200"/>
            <a:ext cx="2068560" cy="107172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6" descr="Banner Orizontal Essay_Logo Asociatie_lowQ.png"/>
          <p:cNvPicPr/>
          <p:nvPr/>
        </p:nvPicPr>
        <p:blipFill>
          <a:blip r:embed="rId4"/>
          <a:stretch/>
        </p:blipFill>
        <p:spPr>
          <a:xfrm>
            <a:off x="357120" y="857160"/>
            <a:ext cx="3889440" cy="12146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ext Box 1"/>
          <p:cNvSpPr/>
          <p:nvPr/>
        </p:nvSpPr>
        <p:spPr>
          <a:xfrm>
            <a:off x="304920" y="-76320"/>
            <a:ext cx="8839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o-RO" sz="4200" spc="-1" strike="noStrike">
                <a:solidFill>
                  <a:srgbClr val="70215f"/>
                </a:solidFill>
                <a:latin typeface="Open Sans"/>
                <a:ea typeface="Open Sans"/>
              </a:rPr>
              <a:t>Parteneri 2013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9" name="Picture 4" descr="Logo Asociatia SS pentru Educatie_220.jpg"/>
          <p:cNvPicPr/>
          <p:nvPr/>
        </p:nvPicPr>
        <p:blipFill>
          <a:blip r:embed="rId2"/>
          <a:stretch/>
        </p:blipFill>
        <p:spPr>
          <a:xfrm>
            <a:off x="6789600" y="142920"/>
            <a:ext cx="2068560" cy="1071360"/>
          </a:xfrm>
          <a:prstGeom prst="rect">
            <a:avLst/>
          </a:prstGeom>
          <a:ln w="0">
            <a:noFill/>
          </a:ln>
        </p:spPr>
      </p:pic>
      <p:grpSp>
        <p:nvGrpSpPr>
          <p:cNvPr id="590" name="TextBox 5"/>
          <p:cNvGrpSpPr/>
          <p:nvPr/>
        </p:nvGrpSpPr>
        <p:grpSpPr>
          <a:xfrm>
            <a:off x="208080" y="1066680"/>
            <a:ext cx="6583320" cy="365400"/>
            <a:chOff x="208080" y="1066680"/>
            <a:chExt cx="6583320" cy="365400"/>
          </a:xfrm>
        </p:grpSpPr>
        <p:pic>
          <p:nvPicPr>
            <p:cNvPr id="591" name="TextBox 5" descr=""/>
            <p:cNvPicPr/>
            <p:nvPr/>
          </p:nvPicPr>
          <p:blipFill>
            <a:blip r:embed="rId3"/>
            <a:stretch/>
          </p:blipFill>
          <p:spPr>
            <a:xfrm>
              <a:off x="208080" y="1066680"/>
              <a:ext cx="658332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"/>
            <p:cNvSpPr/>
            <p:nvPr/>
          </p:nvSpPr>
          <p:spPr>
            <a:xfrm>
              <a:off x="214200" y="1071720"/>
              <a:ext cx="657252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o-RO" sz="1700" spc="-1" strike="noStrike">
                  <a:solidFill>
                    <a:srgbClr val="70215f"/>
                  </a:solidFill>
                  <a:latin typeface="Open Sans"/>
                  <a:ea typeface="Open Sans"/>
                </a:rPr>
                <a:t>Parteneri Educationali &amp; Sponsori Essay Competition 2013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93" name="Picture 6" descr="harrow.jpg"/>
          <p:cNvPicPr/>
          <p:nvPr/>
        </p:nvPicPr>
        <p:blipFill>
          <a:blip r:embed="rId4"/>
          <a:stretch/>
        </p:blipFill>
        <p:spPr>
          <a:xfrm>
            <a:off x="357120" y="1571760"/>
            <a:ext cx="1343160" cy="135720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8" descr="british council_2.jpg"/>
          <p:cNvPicPr/>
          <p:nvPr/>
        </p:nvPicPr>
        <p:blipFill>
          <a:blip r:embed="rId5"/>
          <a:stretch/>
        </p:blipFill>
        <p:spPr>
          <a:xfrm>
            <a:off x="1657440" y="1571760"/>
            <a:ext cx="1842840" cy="86508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9" descr="fischer.jpg"/>
          <p:cNvPicPr/>
          <p:nvPr/>
        </p:nvPicPr>
        <p:blipFill>
          <a:blip r:embed="rId6"/>
          <a:stretch/>
        </p:blipFill>
        <p:spPr>
          <a:xfrm>
            <a:off x="3500280" y="1643040"/>
            <a:ext cx="1738440" cy="71424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10" descr="carturesti.jpg"/>
          <p:cNvPicPr/>
          <p:nvPr/>
        </p:nvPicPr>
        <p:blipFill>
          <a:blip r:embed="rId7"/>
          <a:stretch/>
        </p:blipFill>
        <p:spPr>
          <a:xfrm>
            <a:off x="5416560" y="1500120"/>
            <a:ext cx="1512720" cy="85716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11" descr="editura humanitas.png"/>
          <p:cNvPicPr/>
          <p:nvPr/>
        </p:nvPicPr>
        <p:blipFill>
          <a:blip r:embed="rId8"/>
          <a:stretch/>
        </p:blipFill>
        <p:spPr>
          <a:xfrm>
            <a:off x="357120" y="3143160"/>
            <a:ext cx="2143080" cy="38268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12" descr="fnapip_logo_smaller_200.png"/>
          <p:cNvPicPr/>
          <p:nvPr/>
        </p:nvPicPr>
        <p:blipFill>
          <a:blip r:embed="rId9"/>
          <a:stretch/>
        </p:blipFill>
        <p:spPr>
          <a:xfrm>
            <a:off x="5929200" y="2571840"/>
            <a:ext cx="1198800" cy="110340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13" descr="simaco.jpg"/>
          <p:cNvPicPr/>
          <p:nvPr/>
        </p:nvPicPr>
        <p:blipFill>
          <a:blip r:embed="rId10"/>
          <a:stretch/>
        </p:blipFill>
        <p:spPr>
          <a:xfrm>
            <a:off x="4071960" y="2852640"/>
            <a:ext cx="1714320" cy="647640"/>
          </a:xfrm>
          <a:prstGeom prst="rect">
            <a:avLst/>
          </a:prstGeom>
          <a:ln w="0">
            <a:noFill/>
          </a:ln>
        </p:spPr>
      </p:pic>
      <p:grpSp>
        <p:nvGrpSpPr>
          <p:cNvPr id="600" name="TextBox 14"/>
          <p:cNvGrpSpPr/>
          <p:nvPr/>
        </p:nvGrpSpPr>
        <p:grpSpPr>
          <a:xfrm>
            <a:off x="281160" y="3786120"/>
            <a:ext cx="6583320" cy="365040"/>
            <a:chOff x="281160" y="3786120"/>
            <a:chExt cx="6583320" cy="365040"/>
          </a:xfrm>
        </p:grpSpPr>
        <p:pic>
          <p:nvPicPr>
            <p:cNvPr id="601" name="TextBox 14" descr=""/>
            <p:cNvPicPr/>
            <p:nvPr/>
          </p:nvPicPr>
          <p:blipFill>
            <a:blip r:embed="rId11"/>
            <a:stretch/>
          </p:blipFill>
          <p:spPr>
            <a:xfrm>
              <a:off x="281160" y="3786120"/>
              <a:ext cx="658332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"/>
            <p:cNvSpPr/>
            <p:nvPr/>
          </p:nvSpPr>
          <p:spPr>
            <a:xfrm>
              <a:off x="285840" y="3789360"/>
              <a:ext cx="657216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o-RO" sz="1700" spc="-1" strike="noStrike">
                  <a:solidFill>
                    <a:srgbClr val="70215f"/>
                  </a:solidFill>
                  <a:latin typeface="Open Sans"/>
                  <a:ea typeface="Open Sans"/>
                </a:rPr>
                <a:t>Parteneri Media Essay Competition 2013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03" name="Picture 15" descr="Logo Learning About.png"/>
          <p:cNvPicPr/>
          <p:nvPr/>
        </p:nvPicPr>
        <p:blipFill>
          <a:blip r:embed="rId12"/>
          <a:stretch/>
        </p:blipFill>
        <p:spPr>
          <a:xfrm>
            <a:off x="7286760" y="2786040"/>
            <a:ext cx="1500120" cy="47952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6" descr="Logo ISMB.png"/>
          <p:cNvPicPr/>
          <p:nvPr/>
        </p:nvPicPr>
        <p:blipFill>
          <a:blip r:embed="rId13"/>
          <a:stretch/>
        </p:blipFill>
        <p:spPr>
          <a:xfrm>
            <a:off x="7000920" y="1523880"/>
            <a:ext cx="1571760" cy="111924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15" descr="Logo KissFM lowQ.png"/>
          <p:cNvPicPr/>
          <p:nvPr/>
        </p:nvPicPr>
        <p:blipFill>
          <a:blip r:embed="rId14"/>
          <a:stretch/>
        </p:blipFill>
        <p:spPr>
          <a:xfrm>
            <a:off x="357120" y="4357800"/>
            <a:ext cx="870120" cy="71424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16" descr="logo Digi24.png"/>
          <p:cNvPicPr/>
          <p:nvPr/>
        </p:nvPicPr>
        <p:blipFill>
          <a:blip r:embed="rId15"/>
          <a:stretch/>
        </p:blipFill>
        <p:spPr>
          <a:xfrm>
            <a:off x="1428840" y="4286160"/>
            <a:ext cx="857160" cy="83844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17" descr="Logo ItsyBitsy.png"/>
          <p:cNvPicPr/>
          <p:nvPr/>
        </p:nvPicPr>
        <p:blipFill>
          <a:blip r:embed="rId16"/>
          <a:stretch/>
        </p:blipFill>
        <p:spPr>
          <a:xfrm>
            <a:off x="2357280" y="4286160"/>
            <a:ext cx="1571760" cy="72396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18" descr="Adevărul-logo.jpg"/>
          <p:cNvPicPr/>
          <p:nvPr/>
        </p:nvPicPr>
        <p:blipFill>
          <a:blip r:embed="rId17"/>
          <a:stretch/>
        </p:blipFill>
        <p:spPr>
          <a:xfrm>
            <a:off x="4071960" y="4500720"/>
            <a:ext cx="1608120" cy="42840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19" descr="Logo Bravo_png.png"/>
          <p:cNvPicPr/>
          <p:nvPr/>
        </p:nvPicPr>
        <p:blipFill>
          <a:blip r:embed="rId18"/>
          <a:stretch/>
        </p:blipFill>
        <p:spPr>
          <a:xfrm>
            <a:off x="5715000" y="4484520"/>
            <a:ext cx="1643040" cy="47484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21" descr="LOGO RRC ALB MARE_220px.jpg"/>
          <p:cNvPicPr/>
          <p:nvPr/>
        </p:nvPicPr>
        <p:blipFill>
          <a:blip r:embed="rId19"/>
          <a:stretch/>
        </p:blipFill>
        <p:spPr>
          <a:xfrm>
            <a:off x="311040" y="5286240"/>
            <a:ext cx="1332000" cy="71460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22" descr="logo-romaniapozitia 2010.jpg"/>
          <p:cNvPicPr/>
          <p:nvPr/>
        </p:nvPicPr>
        <p:blipFill>
          <a:blip r:embed="rId20"/>
          <a:stretch/>
        </p:blipFill>
        <p:spPr>
          <a:xfrm>
            <a:off x="1643040" y="5316480"/>
            <a:ext cx="1500120" cy="61272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23" descr="sigla-mediafax_220.jpg"/>
          <p:cNvPicPr/>
          <p:nvPr/>
        </p:nvPicPr>
        <p:blipFill>
          <a:blip r:embed="rId21"/>
          <a:stretch/>
        </p:blipFill>
        <p:spPr>
          <a:xfrm>
            <a:off x="3214800" y="5357880"/>
            <a:ext cx="1571400" cy="42840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24" descr="logo.png.png"/>
          <p:cNvPicPr/>
          <p:nvPr/>
        </p:nvPicPr>
        <p:blipFill>
          <a:blip r:embed="rId22"/>
          <a:stretch/>
        </p:blipFill>
        <p:spPr>
          <a:xfrm>
            <a:off x="4929120" y="5357880"/>
            <a:ext cx="1643040" cy="3934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25" descr="teen press.png"/>
          <p:cNvPicPr/>
          <p:nvPr/>
        </p:nvPicPr>
        <p:blipFill>
          <a:blip r:embed="rId23"/>
          <a:stretch/>
        </p:blipFill>
        <p:spPr>
          <a:xfrm>
            <a:off x="6715080" y="5214960"/>
            <a:ext cx="1143000" cy="55260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27" descr="calificativ.png"/>
          <p:cNvPicPr/>
          <p:nvPr/>
        </p:nvPicPr>
        <p:blipFill>
          <a:blip r:embed="rId24"/>
          <a:stretch/>
        </p:blipFill>
        <p:spPr>
          <a:xfrm>
            <a:off x="2428920" y="6072120"/>
            <a:ext cx="1515960" cy="28584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28" descr="Logo AmDoar18Ani_lowQ.png"/>
          <p:cNvPicPr/>
          <p:nvPr/>
        </p:nvPicPr>
        <p:blipFill>
          <a:blip r:embed="rId25"/>
          <a:stretch/>
        </p:blipFill>
        <p:spPr>
          <a:xfrm>
            <a:off x="428760" y="6215040"/>
            <a:ext cx="1785960" cy="32868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30" descr="Logo Mamica Urbana.png"/>
          <p:cNvPicPr/>
          <p:nvPr/>
        </p:nvPicPr>
        <p:blipFill>
          <a:blip r:embed="rId26"/>
          <a:stretch/>
        </p:blipFill>
        <p:spPr>
          <a:xfrm>
            <a:off x="4143240" y="5929200"/>
            <a:ext cx="857520" cy="81144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31" descr="Logo_Copilul_small.jpg"/>
          <p:cNvPicPr/>
          <p:nvPr/>
        </p:nvPicPr>
        <p:blipFill>
          <a:blip r:embed="rId27"/>
          <a:stretch/>
        </p:blipFill>
        <p:spPr>
          <a:xfrm>
            <a:off x="5072040" y="5929200"/>
            <a:ext cx="1182600" cy="69876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32" descr="Logo 7Seri_lowQ.png"/>
          <p:cNvPicPr/>
          <p:nvPr/>
        </p:nvPicPr>
        <p:blipFill>
          <a:blip r:embed="rId28"/>
          <a:stretch/>
        </p:blipFill>
        <p:spPr>
          <a:xfrm>
            <a:off x="6286680" y="6215040"/>
            <a:ext cx="1500120" cy="21420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33" descr="logo PRwave pe alb_220.tif"/>
          <p:cNvPicPr/>
          <p:nvPr/>
        </p:nvPicPr>
        <p:blipFill>
          <a:blip r:embed="rId29"/>
          <a:stretch/>
        </p:blipFill>
        <p:spPr>
          <a:xfrm>
            <a:off x="7448400" y="4572000"/>
            <a:ext cx="1266840" cy="35712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35" descr="logo_young initiative_150.jpg"/>
          <p:cNvPicPr/>
          <p:nvPr/>
        </p:nvPicPr>
        <p:blipFill>
          <a:blip r:embed="rId30"/>
          <a:stretch/>
        </p:blipFill>
        <p:spPr>
          <a:xfrm>
            <a:off x="7929720" y="5143680"/>
            <a:ext cx="974520" cy="64260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36" descr="Logo_Bucharest-Nightlife_small.jpg"/>
          <p:cNvPicPr/>
          <p:nvPr/>
        </p:nvPicPr>
        <p:blipFill>
          <a:blip r:embed="rId31"/>
          <a:stretch/>
        </p:blipFill>
        <p:spPr>
          <a:xfrm>
            <a:off x="2571840" y="6429240"/>
            <a:ext cx="1230120" cy="27144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38" descr="Logo Blogul Mamei Incepatoare_lowQ.png"/>
          <p:cNvPicPr/>
          <p:nvPr/>
        </p:nvPicPr>
        <p:blipFill>
          <a:blip r:embed="rId32"/>
          <a:stretch/>
        </p:blipFill>
        <p:spPr>
          <a:xfrm>
            <a:off x="7929720" y="5919840"/>
            <a:ext cx="857160" cy="58716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33" descr="logo Transylvania College.png"/>
          <p:cNvPicPr/>
          <p:nvPr/>
        </p:nvPicPr>
        <p:blipFill>
          <a:blip r:embed="rId33"/>
          <a:stretch/>
        </p:blipFill>
        <p:spPr>
          <a:xfrm>
            <a:off x="2714760" y="2571840"/>
            <a:ext cx="1071360" cy="10461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4T08:09:06Z</dcterms:created>
  <dc:creator>Shakespeare</dc:creator>
  <dc:description/>
  <dc:language>en-US</dc:language>
  <cp:lastModifiedBy>Shakespeare</cp:lastModifiedBy>
  <dcterms:modified xsi:type="dcterms:W3CDTF">2013-02-04T14:48:13Z</dcterms:modified>
  <cp:revision>89</cp:revision>
  <dc:subject/>
  <dc:title>Totul despre examenele Trinity si Cambridg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3524811033</vt:lpwstr>
  </property>
</Properties>
</file>